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2570-0F94-42D6-95B3-5E95CBE8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2483-E59D-4A80-B126-18E9D5A9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9DAF-B22B-4664-9425-5D661D2E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284E-FDD3-4AC2-8925-D0C8C947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62F4-8178-44A0-AF79-2EBC7F78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DC2F-4240-4B14-B165-36A6879E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9A49-DD7D-43A5-8957-BF6B7287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97B1-BB8A-4268-8F14-B9DBE6E3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484B-27C6-43C5-9882-D902982F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D47B-7414-462B-A070-BFFA4ED7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1E50-D621-414F-AA18-F655C50A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AA9C-F997-437D-8371-45943ED8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F6C4-B4DF-4E76-AE74-B5EEE7F88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2: Intege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 Students will add inte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533520"/>
            <a:ext cx="8340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jective:  Students will add integers</a:t>
            </a:r>
            <a:br>
              <a:rPr sz="4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e Sig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the nu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 the 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 Sig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tract the nu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the sign of the number with the larger absolute valu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jective:  Students will add integ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try some together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5 + 8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-5 + (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-5 +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5 + (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jective:  Students will add intege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y some on your ow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-4 + (-2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5 + (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-10 + 7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9 + (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) –12 + (-16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) -24 +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) 18 + (-13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) -45 + (-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jective:  Students will add intege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king it a step further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more than 2 integer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from left to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-18 + 6 + (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15 + (-4) + (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jective:  Students will add intege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y some on your ow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12 + (-18) + -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-23 + (-16)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11 + (-16) + (-46) + 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85 + (-105) +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t Ticke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 + 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4 + 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1 +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 + 16 + 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1:  Workbook pg. 147  11 -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2: None – Work done in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13:50:04Z</dcterms:created>
  <dc:creator>ccps</dc:creator>
  <dc:description/>
  <dc:language>en-US</dc:language>
  <cp:lastModifiedBy>ccps</cp:lastModifiedBy>
  <dcterms:modified xsi:type="dcterms:W3CDTF">2010-04-16T17:40:47Z</dcterms:modified>
  <cp:revision>8</cp:revision>
  <dc:subject/>
  <dc:title>Unit 12: Integers </dc:title>
</cp:coreProperties>
</file>